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E9234-61E7-4547-94DC-FE478914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7E135-211E-48A5-AA67-B0B61215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58B11-4DC1-499F-BF14-E06B4A5A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32EB7-EB97-4EED-AA89-56B8A261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B5C0-419E-408E-BEED-0F394A87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23DE-1C68-4EA7-A881-DEF88B1F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A7A7-2D3E-47F1-8321-708148E6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768B-0129-456D-9297-0DADD35C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63E8-DBCF-4B37-8BED-2D031709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22DD-DBA2-480D-B5BB-F0CAFF4D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3B08-B012-4451-A599-AB3CC4A0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F3F1A-4BCA-45AC-ACD5-8138E753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584B-D739-42C5-9B5C-59CE7BF1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936C-DF41-4200-80DD-45EC2123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24BE-4C5E-41FE-967F-160F02D3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B396-0EF7-42B4-8488-8C6F5FDD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380D-C2C7-406C-BEE0-7BB02A2E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8F05F-7380-40AB-948A-03EC924F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B3DBB-C62B-4853-BF80-DD121E55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98899-99A8-4718-8AB3-37550ECB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BB653-D2CF-48E6-B20B-0F887DEC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0AB05-25D5-4C49-BC4B-5A4D7F32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6F167-1D13-441F-9DAD-06E53BB1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F9ED7-96C6-4C38-9E2A-82FD44BA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178B-8045-4777-9459-490281AFE2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86CB-D67A-490C-85D7-29758A8E08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360" y="1700280"/>
            <a:ext cx="60912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ffffff"/>
                </a:solidFill>
                <a:latin typeface="Arial"/>
              </a:rPr>
              <a:t>ГРАЖДАНСКИЙ БЮДЖЕ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87640" y="4292640"/>
            <a:ext cx="601992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 2019 -2021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Уважаемые посетители сай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560" y="1499760"/>
            <a:ext cx="853596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шему вниманию представлен гражданский бюджет отдела образования Каркаралинского района на  2019-2021 годы, который содержит информацию об основных показателях бюджета отдела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юджет отдела образования переутвержде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новлением акимата Каркаралинского района от 5 сентября 2019 года №264 «О внесении изменений в постановление акимата Каркаралинского района от 27 декабря 2018 года №442  «О реализации решения ХХ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ссии Каркаралинского районного маслихата от 26 декабря 2018 года 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37/308 «О районном бюджете на 2019-2021 год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юджетные программы отдела образования утверждены приказом руководителя от  16 декабря 2018 года № 507, переутверждены от 16 сентября 2019 года №2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HP\Desktop\57741_1.jpeg"/>
          <p:cNvPicPr/>
          <p:nvPr/>
        </p:nvPicPr>
        <p:blipFill>
          <a:blip r:embed="rId1"/>
          <a:stretch/>
        </p:blipFill>
        <p:spPr>
          <a:xfrm>
            <a:off x="5791320" y="5151600"/>
            <a:ext cx="1163520" cy="1461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Users\HP\Desktop\3293675.jpg"/>
          <p:cNvPicPr/>
          <p:nvPr/>
        </p:nvPicPr>
        <p:blipFill>
          <a:blip r:embed="rId2"/>
          <a:stretch/>
        </p:blipFill>
        <p:spPr>
          <a:xfrm>
            <a:off x="1395360" y="5224320"/>
            <a:ext cx="2470320" cy="1341720"/>
          </a:xfrm>
          <a:prstGeom prst="rect">
            <a:avLst/>
          </a:prstGeom>
          <a:ln w="0">
            <a:noFill/>
          </a:ln>
        </p:spPr>
      </p:pic>
      <p:sp>
        <p:nvSpPr>
          <p:cNvPr id="112" name="Овал 6"/>
          <p:cNvSpPr/>
          <p:nvPr/>
        </p:nvSpPr>
        <p:spPr>
          <a:xfrm>
            <a:off x="2771640" y="981000"/>
            <a:ext cx="3240360" cy="12240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2 организа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низ 7"/>
          <p:cNvSpPr/>
          <p:nvPr/>
        </p:nvSpPr>
        <p:spPr>
          <a:xfrm rot="3408000">
            <a:off x="2542680" y="1718280"/>
            <a:ext cx="433080" cy="720720"/>
          </a:xfrm>
          <a:prstGeom prst="downArrow">
            <a:avLst>
              <a:gd name="adj1" fmla="val 50000"/>
              <a:gd name="adj2" fmla="val 82947"/>
            </a:avLst>
          </a:pr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8"/>
          <p:cNvSpPr/>
          <p:nvPr/>
        </p:nvSpPr>
        <p:spPr>
          <a:xfrm rot="18737400">
            <a:off x="6280200" y="1885680"/>
            <a:ext cx="431640" cy="720720"/>
          </a:xfrm>
          <a:prstGeom prst="downArrow">
            <a:avLst>
              <a:gd name="adj1" fmla="val 50000"/>
              <a:gd name="adj2" fmla="val 83223"/>
            </a:avLst>
          </a:pr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Вертикальный свиток 9"/>
          <p:cNvSpPr/>
          <p:nvPr/>
        </p:nvSpPr>
        <p:spPr>
          <a:xfrm>
            <a:off x="179280" y="2349360"/>
            <a:ext cx="2521080" cy="251964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Дошкольные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учреждения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9 –мини-цент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ри 29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бщеобразовательных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школа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Вертикальный свиток 10"/>
          <p:cNvSpPr/>
          <p:nvPr/>
        </p:nvSpPr>
        <p:spPr>
          <a:xfrm>
            <a:off x="6551640" y="2133720"/>
            <a:ext cx="2592360" cy="266364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ко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реж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–центр дете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нош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–станция ю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 музыкальн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низ 11"/>
          <p:cNvSpPr/>
          <p:nvPr/>
        </p:nvSpPr>
        <p:spPr>
          <a:xfrm>
            <a:off x="4500720" y="2349360"/>
            <a:ext cx="431640" cy="574920"/>
          </a:xfrm>
          <a:prstGeom prst="downArrow">
            <a:avLst>
              <a:gd name="adj1" fmla="val 41185"/>
              <a:gd name="adj2" fmla="val 49948"/>
            </a:avLst>
          </a:pr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Вертикальный свиток 12"/>
          <p:cNvSpPr/>
          <p:nvPr/>
        </p:nvSpPr>
        <p:spPr>
          <a:xfrm>
            <a:off x="3708360" y="2997360"/>
            <a:ext cx="2232000" cy="2087280"/>
          </a:xfrm>
          <a:prstGeom prst="verticalScrol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ые, основ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е и сред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образова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– нач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– основные сред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 –сред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Горизонтальный свиток 13"/>
          <p:cNvSpPr/>
          <p:nvPr/>
        </p:nvSpPr>
        <p:spPr>
          <a:xfrm>
            <a:off x="684360" y="333360"/>
            <a:ext cx="8208720" cy="792000"/>
          </a:xfrm>
          <a:prstGeom prst="horizont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ть организаций образования, финансируем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бюджета района 2019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4"/>
          <p:cNvSpPr/>
          <p:nvPr/>
        </p:nvSpPr>
        <p:spPr>
          <a:xfrm>
            <a:off x="7242480" y="213372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5"/>
          <p:cNvSpPr/>
          <p:nvPr/>
        </p:nvSpPr>
        <p:spPr>
          <a:xfrm>
            <a:off x="4140360" y="2924280"/>
            <a:ext cx="1554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рганизац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6"/>
          <p:cNvSpPr/>
          <p:nvPr/>
        </p:nvSpPr>
        <p:spPr>
          <a:xfrm>
            <a:off x="834480" y="234936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9 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3880" y="571680"/>
            <a:ext cx="807588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сходы бюджета на образование, тыс. тенг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42960" y="733320"/>
          <a:ext cx="8143920" cy="5748480"/>
        </p:xfrm>
        <a:graphic>
          <a:graphicData uri="http://schemas.openxmlformats.org/drawingml/2006/table">
            <a:tbl>
              <a:tblPr/>
              <a:tblGrid>
                <a:gridCol w="5224320"/>
                <a:gridCol w="1008360"/>
                <a:gridCol w="1009440"/>
                <a:gridCol w="901800"/>
              </a:tblGrid>
              <a:tr h="441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042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893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71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у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ги по реализации государственной политики на местном уровне в области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1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98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98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общеобразовательное обу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612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8618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8618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обретение и доставка учебников, учебно-методических комплексов для государственных учреждений образования района (города районного 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34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88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88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д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олнительное образован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698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5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5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итальные расходы государственного орг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месячную выплату денежных средств опекунам (попечителям) на содержание ребенка-сироты (детей-сирот), и ребенка (детей), оставшегося без попечения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7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ержание ребенка (детей), переданного патронатным воспитател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9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г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дарственную поддержку по содержанию детей-сирот и детей, оставшихся без попечения родителей, в детских домах семейного типа и приемных семь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7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8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8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итальные расходы подведомственных государственных учреждений и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25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790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6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текущие трансферты из местны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92000" y="785880"/>
            <a:ext cx="8352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левые трансферты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 республиканского бюджета, тыс. тенг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4360" y="1197000"/>
          <a:ext cx="8001000" cy="5413320"/>
        </p:xfrm>
        <a:graphic>
          <a:graphicData uri="http://schemas.openxmlformats.org/drawingml/2006/table">
            <a:tbl>
              <a:tblPr/>
              <a:tblGrid>
                <a:gridCol w="7000560"/>
                <a:gridCol w="1000440"/>
              </a:tblGrid>
              <a:tr h="21600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61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ые текущие трансферты бюджетам районов (городов областного значения) на доплату учителям, прошедшим стажировку по языковым курсам и на доплату учителям за замещение на период обучения основного сотрудника. (Расходы на доплату учителям, прошедшим стажировку по языковым курсам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ые текущие трансферты бюджетам районов (городов областного значения) на доплату учителям, прошедшим стажировку по языковым курсам и на доплату учителям за замещение на период обучения основного сотрудника. (Расходы на доплату учителям за замещение на период обучения основного сотрудник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5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1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ые текущие трансферты районным (городов областного значения) бюджетам на доплату учителям организаций образования, реализующим учебные программы начального, основного и общего среднего образования по обновленному содержанию образования, и возмещение сумм, выплаченных по данному направлению расходов за счет средств местных бюджет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74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ые текущие трансферты районным (городов областного значения) бюджетам на доплату за квалификацию педагогического мастерства учителям, прошедшим национальный квалификационный тест и реализующим образовательные программы начального, основного и общего среднего образ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2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ые текущие трансферты районным (городов областного значения) бюджетам на увеличение размеров должностных окладов и за квалификацию педагогического мастерства педагогам-психологам школ. (Расходы на увеличение размеров должностных окладов педагогам-психологам шко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ые текущие трансферты районным (городов областного значения) бюджетам на увеличение размеров должностных окладов и за квалификацию педагогического мастерства педагогам-психологам школ. (Расходы на квалификацию педагогического мастерства педагогам-психологам шко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1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ые текущие трансферты районным (городов областного значения) бюджетам на повышение заработной платы отдельных категорий гражданских служащих, работников организаций, содержащихся за счет средств государственного бюджета, работников казенных предприятий в связи с изменением размера минимальной заработной платы (с 1 января 2019 год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99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ые текущие трансферты районным (городов областного значения) бюджетам на повышение заработной платы гражданских служащих, работников организаций, содержащихся за счет средств государственного бюджета, работников казенных предприятий до 30 %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1 июня 2019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83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енсация потерь нижестоящих  бюджетов в связи изменением законодатель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5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ые текущие трансферты районным (городов областного значения) бюджетам на внедрение новой системы оплаты труда государственных служащ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55640" y="1571760"/>
          <a:ext cx="8031240" cy="4627440"/>
        </p:xfrm>
        <a:graphic>
          <a:graphicData uri="http://schemas.openxmlformats.org/drawingml/2006/table">
            <a:tbl>
              <a:tblPr/>
              <a:tblGrid>
                <a:gridCol w="6553080"/>
                <a:gridCol w="1478160"/>
              </a:tblGrid>
              <a:tr h="4269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60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536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компьютерной техники (компьютеры, ноутбуки, принтер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9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16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бытовой техни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73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школ, мини-центров мебел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оборудования для туристических круж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спортивного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котлов, насосов для котельных шк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8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монт объектов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99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учебников и учебно-методических комплек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34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8" name="Заголовок 1"/>
          <p:cNvSpPr/>
          <p:nvPr/>
        </p:nvSpPr>
        <p:spPr>
          <a:xfrm>
            <a:off x="611280" y="47628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сходы капитального характера, тыс. тен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3:51:47Z</dcterms:created>
  <dc:creator>Назарчук</dc:creator>
  <dc:description/>
  <dc:language>en-US</dc:language>
  <cp:lastModifiedBy>Пользователь Windows</cp:lastModifiedBy>
  <cp:lastPrinted>2018-01-10T05:45:16Z</cp:lastPrinted>
  <dcterms:modified xsi:type="dcterms:W3CDTF">2019-09-16T10:23:15Z</dcterms:modified>
  <cp:revision>931</cp:revision>
  <dc:subject/>
  <dc:title>ГРАЖДАНСКИЙ БЮДЖЕТ</dc:title>
</cp:coreProperties>
</file>